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1.png" ContentType="image/png"/>
  <Override PartName="/ppt/media/image3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png" ContentType="image/png"/>
  <Override PartName="/ppt/media/image13.wmf" ContentType="image/x-wmf"/>
  <Override PartName="/ppt/media/image5.png" ContentType="image/png"/>
  <Override PartName="/ppt/media/image10.wmf" ContentType="image/x-wmf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BCC1-6FFF-4774-B0D9-74BBE4FAC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72D4-E9D6-4B80-AC17-FACE6FB30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075C-3094-4BDD-BE5C-CF36B1C4C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AED7-A866-46A3-8C05-BD0D9C4F7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7A30C-05F2-46E5-AB56-3F969FCEE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B75D9-78FB-4291-9BEF-FAF19F355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A30CA-9788-47AD-B8FA-65417AF86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6E979-3C89-485D-805A-EE3B219AC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1F828-8F28-4664-A464-B8DE953B0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2D5F9-5E30-4749-BC76-7CC590889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E39A6-A08C-4615-9DEE-5D59FBE07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FC96-51FB-4CDA-8A7F-10C94FD3A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B60FE-44C8-4FAC-8192-F2ACBEBC7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14383-28AC-4D2A-A2BF-8D7238C4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44AF6-19BA-4040-943F-BE69CF54A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E7E6B-FF41-4AB3-8720-CA733B3E1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E36FD-2ADA-4ED9-B695-8AA252EAB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9AC9-732B-4E5F-BD07-C2EFCDA7A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1ECB-8CED-4D7C-9828-EC84D3F02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C2EC8-1946-48A4-87EA-FD7CBB0BB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DE8D-3C62-4CE3-BDCC-86773F263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551D-CC8F-44F2-A1B3-7F16F237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B81A-3CFE-49F9-916F-082BE856F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356E-33D3-4EF1-A1D4-A68C7B976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D8B79-8BC4-4BB7-B3BF-EA13A23E7B2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5E8E8-E2BD-4783-B600-2179357B44B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990720" y="1752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MANAGEMENT OF BACTERIAL KIDNEY DISEASE WITH THE “NEW” KIRKEGAARD AND PERRY ANTIBODI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90720" y="330984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oberta Scott, Douglas Munson,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nd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Keith Johnson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6f89f7"/>
              </a:buClr>
              <a:buSzPct val="11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131760" y="149400"/>
          <a:ext cx="8886960" cy="66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1760" y="149400"/>
                    <a:ext cx="8886960" cy="66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ELISAantigencapture" descr=""/>
          <p:cNvPicPr/>
          <p:nvPr/>
        </p:nvPicPr>
        <p:blipFill>
          <a:blip r:embed="rId1"/>
          <a:stretch/>
        </p:blipFill>
        <p:spPr>
          <a:xfrm>
            <a:off x="2646360" y="833400"/>
            <a:ext cx="3851280" cy="51894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4253760" y="4689360"/>
            <a:ext cx="250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Coating Antibod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710600" y="3851280"/>
            <a:ext cx="195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BKD Antige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187080" y="1565280"/>
            <a:ext cx="170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Conjugate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Antibod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785480" y="34596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Color Reacti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24280" y="1905120"/>
            <a:ext cx="53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952880" y="685800"/>
            <a:ext cx="685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 rot="10800000">
            <a:off x="4419720" y="3504240"/>
            <a:ext cx="838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rot="10800000">
            <a:off x="4010400" y="4567680"/>
            <a:ext cx="263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410080" y="762120"/>
            <a:ext cx="685800" cy="685800"/>
          </a:xfrm>
          <a:custGeom>
            <a:avLst/>
            <a:gdLst/>
            <a:ahLst/>
            <a:rect l="l" t="t" r="r" b="b"/>
            <a:pathLst>
              <a:path w="432" h="432">
                <a:moveTo>
                  <a:pt x="0" y="192"/>
                </a:moveTo>
                <a:lnTo>
                  <a:pt x="144" y="288"/>
                </a:lnTo>
                <a:lnTo>
                  <a:pt x="144" y="432"/>
                </a:lnTo>
                <a:lnTo>
                  <a:pt x="240" y="384"/>
                </a:lnTo>
                <a:lnTo>
                  <a:pt x="432" y="384"/>
                </a:lnTo>
                <a:lnTo>
                  <a:pt x="384" y="240"/>
                </a:lnTo>
                <a:lnTo>
                  <a:pt x="432" y="144"/>
                </a:lnTo>
                <a:lnTo>
                  <a:pt x="192" y="0"/>
                </a:lnTo>
                <a:lnTo>
                  <a:pt x="0" y="192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486400" y="685800"/>
            <a:ext cx="961920" cy="914400"/>
          </a:xfrm>
          <a:prstGeom prst="star5">
            <a:avLst/>
          </a:prstGeom>
          <a:solidFill>
            <a:srgbClr val="93ea84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IN 1996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E SUPPLIES OF BATCH 1 ANTIBODIES PRODUCED BY KPL WERE DEPLETE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KPL PRODUCED THE BATCH 2 ANTIBODI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IS SECOND GROUP OF REAGENTS PRODUCED ELISA OPTICAL DENSITIES THAT WERE INCONSISTENT WITH BATCH 1 ANTIBODI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KPL ANTIBODY TIMELINE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1980’S TO 1996:  KPL BATCH 1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1996 TO 2003:  KPL BATCH 2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2003:  NEW KP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9" name=""/>
          <p:cNvGraphicFramePr/>
          <p:nvPr/>
        </p:nvGraphicFramePr>
        <p:xfrm>
          <a:off x="0" y="1031760"/>
          <a:ext cx="9144000" cy="4794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31760"/>
                    <a:ext cx="9144000" cy="479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"/>
          <p:cNvSpPr/>
          <p:nvPr/>
        </p:nvSpPr>
        <p:spPr>
          <a:xfrm>
            <a:off x="2362320" y="304920"/>
            <a:ext cx="435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imes New Roman"/>
              </a:rPr>
              <a:t>KPL Antibodies:  Good Vs. Ba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2" name=""/>
          <p:cNvGraphicFramePr/>
          <p:nvPr/>
        </p:nvGraphicFramePr>
        <p:xfrm>
          <a:off x="0" y="0"/>
          <a:ext cx="9013680" cy="6524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013680" cy="65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4" name=""/>
          <p:cNvGraphicFramePr/>
          <p:nvPr/>
        </p:nvGraphicFramePr>
        <p:xfrm>
          <a:off x="136440" y="68400"/>
          <a:ext cx="8934480" cy="67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440" y="68400"/>
                    <a:ext cx="8934480" cy="67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"/>
          <p:cNvSpPr/>
          <p:nvPr/>
        </p:nvSpPr>
        <p:spPr>
          <a:xfrm>
            <a:off x="7162920" y="23623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NFHPC LABS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7" name=""/>
          <p:cNvGraphicFramePr/>
          <p:nvPr/>
        </p:nvGraphicFramePr>
        <p:xfrm>
          <a:off x="68400" y="303120"/>
          <a:ext cx="9001080" cy="619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00" y="303120"/>
                    <a:ext cx="900108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IDFG EXPECTS A CULLING RATE OF 10% STATEWIDE 2003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OUTH FORK TRAP:  5.92%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OWELL TRAP:  12.07%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LEARWATER:  19.84%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AWTOOTH: 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3.00%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WORSHAK NFH:  7.60%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RAPID RIVER:  13.40%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AHSIMEROI:  0.90%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TATEWIDE MEAN:  10.60%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Tahoma"/>
              </a:rPr>
              <a:t>CONCLUSIONS: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NEW (2003) KPL COATING AND CONJUGATED ANTIBODIES ARE EQUIVALENT TO THE FIRST REAGENT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IDFG HAS UTILIZED THESE REAGENTS DURING 2003 CHINOOK SPAWNING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2971800" y="228600"/>
            <a:ext cx="3276720" cy="533520"/>
          </a:xfrm>
          <a:prstGeom prst="rect">
            <a:avLst/>
          </a:prstGeom>
          <a:solidFill>
            <a:srgbClr val="6699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0" name="BKD%20Fish" descr=""/>
          <p:cNvPicPr/>
          <p:nvPr/>
        </p:nvPicPr>
        <p:blipFill>
          <a:blip r:embed="rId1"/>
          <a:srcRect l="3333" t="0" r="0" b="7515"/>
          <a:stretch/>
        </p:blipFill>
        <p:spPr>
          <a:xfrm>
            <a:off x="0" y="1090440"/>
            <a:ext cx="9059760" cy="57675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2975400" y="130320"/>
            <a:ext cx="332316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58c"/>
                </a:solidFill>
                <a:latin typeface="Times New Roman"/>
              </a:rPr>
              <a:t>BKD LESION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52280" y="1066680"/>
            <a:ext cx="8458200" cy="52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58c"/>
                </a:solidFill>
                <a:latin typeface="Tahoma"/>
              </a:rPr>
              <a:t>Thanks and Appreciation to: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Ron Pascho,WFRC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Dorothy Chase, WFRC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Eagle Laboratory Staff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Kimberly True, USFW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Mark Peterson, NMF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Mark Strom, NMF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Tahoma"/>
              </a:rPr>
              <a:t>Leslie Lindsay, ODFW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5" name="fish" descr=""/>
          <p:cNvPicPr/>
          <p:nvPr/>
        </p:nvPicPr>
        <p:blipFill>
          <a:blip r:embed="rId1"/>
          <a:stretch/>
        </p:blipFill>
        <p:spPr>
          <a:xfrm>
            <a:off x="4800600" y="2362320"/>
            <a:ext cx="4114800" cy="31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PRIOR TO 1994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DFG TOOK A 60 FISH SAMPLE DURING CHINOOK SPAWNING USING DF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ID NOT UTILIZE CULLING OR SEGREGATION TO MINIMIZE VERTICAL TRANSMISSION OF BK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PIZOOTICS OF BKD IN JUVENILE CHINOOK SALM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600200" y="0"/>
            <a:ext cx="5867280" cy="609480"/>
          </a:xfrm>
          <a:prstGeom prst="rect">
            <a:avLst/>
          </a:prstGeom>
          <a:solidFill>
            <a:srgbClr val="66ff66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5" name="FAT%20of%20BKD" descr=""/>
          <p:cNvPicPr/>
          <p:nvPr/>
        </p:nvPicPr>
        <p:blipFill>
          <a:blip r:embed="rId1"/>
          <a:stretch/>
        </p:blipFill>
        <p:spPr>
          <a:xfrm>
            <a:off x="0" y="774720"/>
            <a:ext cx="9144000" cy="608328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1600200" y="0"/>
            <a:ext cx="5918040" cy="58140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Times New Roman"/>
              </a:rPr>
              <a:t>BKD Fluorescent Antibody Test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SINCE 1994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DFG HAS PROVIDED AN INTEGRATED MANAGEMENT PROGRAM TO LIMIT LOSSES TO BKD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LISA-BASED CULLING AND SEGREG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LSO INTRAPERITONEAL INJECTIONS OF ADULTS WITH ERYTHROMYCI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ahoma"/>
              </a:rPr>
              <a:t>SINCE 1994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ODOPHOR DISINFECTION OF EGG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PHYLACTIC ERYTHROMYCIN MEDICATED FEED TREATMENT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HAS LIMITED BKD EPIZOOTICS TO HIGH BKD SEGREGATION GROUP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ID-HATCH" descr=""/>
          <p:cNvPicPr/>
          <p:nvPr/>
        </p:nvPicPr>
        <p:blipFill>
          <a:blip r:embed="rId1"/>
          <a:stretch/>
        </p:blipFill>
        <p:spPr>
          <a:xfrm>
            <a:off x="1752480" y="228600"/>
            <a:ext cx="5524560" cy="662940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sp>
        <p:nvSpPr>
          <p:cNvPr id="222" name=""/>
          <p:cNvSpPr/>
          <p:nvPr/>
        </p:nvSpPr>
        <p:spPr>
          <a:xfrm>
            <a:off x="1219320" y="2857680"/>
            <a:ext cx="245880" cy="34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1000" y="2487600"/>
            <a:ext cx="2444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657600" y="380880"/>
            <a:ext cx="4800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58c"/>
                </a:solidFill>
                <a:latin typeface="Times New Roman"/>
              </a:rPr>
              <a:t>Idaho Department of Fish and Game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803840" y="914400"/>
            <a:ext cx="2047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58c"/>
                </a:solidFill>
                <a:latin typeface="Times New Roman"/>
              </a:rPr>
              <a:t>Fish Hatcheries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384880" y="4457880"/>
            <a:ext cx="304560" cy="56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080" bIns="1008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219320" y="3048120"/>
            <a:ext cx="195120" cy="164880"/>
          </a:xfrm>
          <a:custGeom>
            <a:avLst/>
            <a:gdLst/>
            <a:ahLst/>
            <a:rect l="l" t="t" r="r" b="b"/>
            <a:pathLst>
              <a:path w="92" h="139">
                <a:moveTo>
                  <a:pt x="1" y="0"/>
                </a:moveTo>
                <a:cubicBezTo>
                  <a:pt x="2" y="16"/>
                  <a:pt x="0" y="33"/>
                  <a:pt x="5" y="48"/>
                </a:cubicBezTo>
                <a:cubicBezTo>
                  <a:pt x="7" y="54"/>
                  <a:pt x="16" y="54"/>
                  <a:pt x="20" y="58"/>
                </a:cubicBezTo>
                <a:cubicBezTo>
                  <a:pt x="33" y="71"/>
                  <a:pt x="42" y="85"/>
                  <a:pt x="58" y="96"/>
                </a:cubicBezTo>
                <a:cubicBezTo>
                  <a:pt x="67" y="131"/>
                  <a:pt x="63" y="124"/>
                  <a:pt x="92" y="139"/>
                </a:cubicBezTo>
              </a:path>
            </a:pathLst>
          </a:custGeom>
          <a:noFill/>
          <a:ln w="381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8" name=""/>
          <p:cNvGraphicFramePr/>
          <p:nvPr/>
        </p:nvGraphicFramePr>
        <p:xfrm>
          <a:off x="112680" y="93600"/>
          <a:ext cx="8982000" cy="668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680" y="93600"/>
                    <a:ext cx="8982000" cy="668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0" name=""/>
          <p:cNvGraphicFramePr/>
          <p:nvPr/>
        </p:nvGraphicFramePr>
        <p:xfrm>
          <a:off x="128520" y="112680"/>
          <a:ext cx="8782200" cy="659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520" y="112680"/>
                    <a:ext cx="8782200" cy="659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6T20:27:50Z</dcterms:created>
  <dc:creator>idfg</dc:creator>
  <dc:description/>
  <dc:language>en-US</dc:language>
  <cp:lastModifiedBy>idfg</cp:lastModifiedBy>
  <dcterms:modified xsi:type="dcterms:W3CDTF">2003-11-26T21:56:18Z</dcterms:modified>
  <cp:revision>19</cp:revision>
  <dc:subject/>
  <dc:title>MANAGEMENT OF BACTERIAL KIDNEY DISEASE WITH THE “NEW” KIRKEGAARD AND PERRY ANTIBODIES</dc:title>
</cp:coreProperties>
</file>